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could-do-it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6.png" ContentType="image/png"/>
  <Override PartName="/ppt/media/image13.gif" ContentType="image/gif"/>
  <Override PartName="/ppt/media/brass%20overture.wav" ContentType="audio/x-wav"/>
  <Override PartName="/ppt/media/image12.png" ContentType="image/png"/>
  <Override PartName="/ppt/media/image11.png" ContentType="image/png"/>
  <Override PartName="/ppt/media/image10.gif" ContentType="image/gif"/>
  <Override PartName="/ppt/media/image9.png" ContentType="image/png"/>
  <Override PartName="/ppt/media/image5.png" ContentType="image/png"/>
  <Override PartName="/ppt/media/applause.wav" ContentType="audio/x-wav"/>
  <Override PartName="/ppt/media/image1.jpeg" ContentType="image/jpeg"/>
  <Override PartName="/ppt/media/image7.png" ContentType="image/png"/>
  <Override PartName="/ppt/media/image22.png" ContentType="image/png"/>
  <Override PartName="/ppt/media/image6.png" ContentType="image/png"/>
  <Override PartName="/ppt/media/image29.png" ContentType="image/png"/>
  <Override PartName="/ppt/media/cantdoit.wav" ContentType="audio/x-wav"/>
  <Override PartName="/ppt/media/image23.png" ContentType="image/png"/>
  <Override PartName="/ppt/media/laser.wav" ContentType="audio/x-wav"/>
  <Override PartName="/ppt/media/image31.png" ContentType="image/png"/>
  <Override PartName="/ppt/media/that-somthing.wav" ContentType="audio/x-wav"/>
  <Override PartName="/ppt/media/harpsichord.wav" ContentType="audio/x-wav"/>
  <Override PartName="/ppt/media/image26.png" ContentType="image/png"/>
  <Override PartName="/ppt/media/image3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SCREAM2.WAV" ContentType="audio/x-wav"/>
  <Override PartName="/ppt/media/image4.png" ContentType="image/png"/>
  <Override PartName="/ppt/media/image34.png" ContentType="image/png"/>
  <Override PartName="/ppt/media/image8.gif" ContentType="image/gif"/>
  <Override PartName="/ppt/media/payatttenboy.wav" ContentType="audio/x-wav"/>
  <Override PartName="/ppt/media/image27.png" ContentType="image/png"/>
  <Override PartName="/ppt/media/image33.jpeg" ContentType="image/jpeg"/>
  <Override PartName="/ppt/media/drumroll.wav" ContentType="audio/x-wav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5CB-6B63-4895-B300-B36C223D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254-672A-4292-A780-1FC8C51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136-21DD-4805-A9FA-D60E6CA4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FA0-0156-4AA2-916C-6086AC21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2E9-71FB-4DA5-B2EE-CAFF9A8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761-E31D-4BBB-B1A8-EBE9311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73F-47B4-4E80-82A3-DAAA146E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23B-A4A5-4854-BE55-36D7AF66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A77-F787-47D4-BB1D-6CF3F47B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ABE-A31A-4448-92AF-F48F89E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26A-80C2-45AA-94D8-C1FFAAC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564-B5D7-4617-89CD-40506F2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544-AB8E-47A3-8C58-A4FDC455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that-somthing.wav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rass%20overture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ould-do-it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audio" Target="../media/harpsichord.wav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ntdoit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ayatttenboy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SCREAM2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remen Town Musicians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94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9625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entury Gothic"/>
              </a:rPr>
              <a:t>People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9436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858000" y="213372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9625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ought             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0384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565440"/>
            <a:ext cx="8305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1521E-006 C 0.01459 -0.00855 0.06615 -0.01687 0.08403 -0.01687 C 0.19809 -0.01687 0.31545 0.11628 0.31545 0.24942 C 0.31545 0.18216 0.37414 0.11628 0.42952 0.11628 C 0.4882 0.11628 0.54358 0.18331 0.54358 0.24942 C 0.54358 0.21614 0.57292 0.18216 0.60226 0.18216 C 0.6316 0.18216 0.66094 0.21521 0.66094 0.24942 C 0.66094 0.23232 0.67552 0.21614 0.69011 0.21614 C 0.70486 0.21614 0.71945 0.23324 0.71945 0.24942 C 0.71945 0.24087 0.72709 0.23232 0.7342 0.23232 C 0.73802 0.23232 0.74879 0.24087 0.74879 0.24942 C 0.74879 0.24503 0.75261 0.24087 0.75643 0.24087 C 0.75643 0.24203 0.76407 0.24503 0.76407 0.24942 C 0.76407 0.24711 0.76407 0.24503 0.76789 0.24503 C 0.76789 0.24619 0.7717 0.24734 0.7717 0.24942 C 0.7717 0.24827 0.7717 0.24711 0.7717 0.24619 C 0.77552 0.24619 0.77552 0.24734 0.77552 0.2485 C 0.77934 0.2485 0.77934 0.24734 0.77934 0.24619 C 0.78334 0.24619 0.78334 0.24734 0.78334 0.2485 E">
                                      <p:cBhvr>
                                        <p:cTn id="3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486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shall        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562720"/>
            <a:ext cx="3657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1814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hall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267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    pleasant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191120"/>
            <a:ext cx="5486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267080"/>
            <a:ext cx="8153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leasan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care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o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bab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ar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ig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bab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ough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al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1706400"/>
            <a:ext cx="1447920" cy="89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96696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30500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086600" y="276084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>
            <a:lum bright="34000"/>
          </a:blip>
          <a:stretch/>
        </p:blipFill>
        <p:spPr>
          <a:xfrm>
            <a:off x="6705720" y="4800600"/>
            <a:ext cx="17524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715000" y="380880"/>
            <a:ext cx="1069920" cy="159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200400" y="3049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4191120" y="5029200"/>
            <a:ext cx="122688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457200" y="304920"/>
            <a:ext cx="714240" cy="109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143000" y="2971800"/>
            <a:ext cx="1335240" cy="164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24080" y="21337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entury Gothic"/>
              </a:rPr>
              <a:t>YEA!!!!!!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WAY TO G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5053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probably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581280"/>
            <a:ext cx="5486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robabl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sign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449568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ign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38098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scared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4648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35053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care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343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eople          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0-21T18:24:36Z</dcterms:modified>
  <cp:revision>18</cp:revision>
  <dc:subject/>
  <dc:title>Turtle’s Race With Beaver Word Wall Words</dc:title>
</cp:coreProperties>
</file>